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339BB-59D5-49E4-91B0-76692D1BAF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6DE09-B453-4B4B-A1D0-3F4D47EB40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066C1-DB9D-4D65-8B50-6D5370A5A9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AD710-F58E-44DF-AE49-934D8C1288A9}" type="datetime3">
              <a:rPr b="0" lang="en-US" sz="1200" spc="-1" strike="noStrike">
                <a:solidFill>
                  <a:srgbClr val="000000"/>
                </a:solidFill>
                <a:latin typeface="Arial"/>
              </a:rPr>
              <a:t>July 31,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44058-879C-4735-A234-F728A3FA40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020D5-6999-44CC-B1B4-4EA08BA603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05865-A157-4C3C-B0F5-ABC190F61E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F9788D-943C-410A-8B4E-75AAE1035C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3CE5D-9F55-4076-9861-343949B75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B43BA8-C381-44F1-BA89-D1192D259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37C56D-ED29-4BEB-A57A-97A6497816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E5D051-50E6-4F11-8F5A-8A11F442DB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5F959E-F89C-4FAF-8B74-1E2017D18F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EA650C-868E-425F-BC15-85D6F1BAD1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DE67FE-BBC0-4FAF-9770-9E2B2A1CA2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A2A83B-77A9-44BF-9588-5683D000EB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95DE9D-C281-4E60-B3D0-3FF5CD0D81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69F5C-F93C-4902-BB06-52819F03CC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09376-2A7E-489D-8C56-771450D47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106AD8-C658-4595-AFB8-CAC87823C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1B20E1-C167-4B71-BA23-9D1C2750B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F9BA58-850C-4104-898C-040E39E986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BCE042-563C-4786-937F-5F2A409109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054B40-1B49-45C3-BDDC-9C9D309BA8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4579F-AB4C-4AFA-BBF6-16EA8C8C7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B545D-AA94-4E2E-A730-82590ECED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67382-ACB7-4C28-B7BF-DDCB4A4F9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5EE71-841E-4DA4-ABDC-C0610A278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B64BA-A6C8-4CC4-BD2E-78CE986F9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AA38A-9E9C-46FF-94D2-C7860A36C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09076-BDBE-429A-B514-3EC4CAA84E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808FD-7FFA-4C25-B62E-70CBEEA993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598F1A7-DF5E-4376-8EF1-2824E787383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33581CD-CD64-42B2-AF16-ADF85B5C09C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A341E-31AE-4F5B-A14A-201663582C3D}"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44D3F-736F-435E-AE6C-D41F427A4BE0}"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